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2443-3C78-4F44-94D5-7B04B50AC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79E-32DA-4B77-B5B1-8BEDD871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4EE-819F-4288-8F25-0797A243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196-2471-4D52-AD90-1747131B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474-513F-4468-B02C-30F275DA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DAE2-2959-4705-B7AE-A7669B87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167C-D5D8-4F82-8350-25A96F0C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CF2E-3377-46C0-B3D5-B974F0C6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35FC-9676-4520-8CEB-B6D94B62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AA63-86C0-4CED-80CC-CC8C56E3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AE16-6924-488C-B74B-32C6BF28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71E8-B125-431D-924F-51FA638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BAC-67C7-4DF8-981A-3CFBC0C7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2F12-54F3-49ED-95E9-5DADB62C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3037-5B91-4046-B5D3-5A9A5754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F08F-350E-41F4-923C-2A20AEB9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DF76-C6C3-490A-ABE3-72701066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1C00-D105-44B0-96B0-E3A5E879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1DC9-EDDD-4818-B46E-B79AC81A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0AD53-3E81-43CA-BF06-35937221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1D60-DF03-4D40-8DEC-5D6E2175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97EB-587F-4FA6-8BDA-40DDC385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6C92-83EB-4E9E-BE35-F4F15462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1C6-4886-41FF-8578-559BAA90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F2D1-CA74-46C3-80BD-2E6E0325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F55C3-D589-41E9-ADFC-9989A9C8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68F1-9625-4015-9151-9FE14A1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DB72-14EF-47C6-B89F-31A6873A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DED8-EC18-4142-ABA6-CA5156B1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35E1-0C5B-439B-A3C3-AFACBDCA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6847-B2F5-4986-B575-D4186B40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96D-7DBD-4B8C-AF87-C0394F79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67F-FFE5-4B97-8638-913F25F9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8DC-326F-47B8-9B53-0D2ABC8B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EFF-14F1-4A98-9DE2-658E097C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5B9-FDD4-4E5A-9819-77C1FDA9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577-335B-489F-AFF3-2EB016C0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3EB0-8979-4020-AED2-F71EF25BE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F4F7-CC5A-49C4-A7AD-B8537B8CF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9760-3032-4A3A-AF7F-4CB7FA8FF83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90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LEGION</cp:lastModifiedBy>
  <cp:lastPrinted>2008-06-08T23:00:35Z</cp:lastPrinted>
  <dcterms:modified xsi:type="dcterms:W3CDTF">2016-12-07T08:30:59Z</dcterms:modified>
  <cp:revision>21</cp:revision>
  <dc:subject/>
  <dc:title>Chapter 7</dc:title>
</cp:coreProperties>
</file>